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75C-7BF4-465C-8590-6D72EE32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ED3-5166-4332-AC84-3294D416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084-8C82-4625-8C63-3B1C75FD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FEE-46B3-439B-99CE-5DCB0804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7F6-5D98-4DC4-B58F-D1702603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F36-37AB-4DC6-A343-77ECD635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165-7414-4DAC-814E-E8953A80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892-2A32-4F22-8E6E-18FC8E72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245-9362-4829-8163-5005907E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A1D-1FE5-44D8-9861-407086F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068-E6EE-40C8-BEAE-4DDFA13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954-63D8-448E-95A4-41B4D3BD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660C-92A5-42ED-98EF-18BBE8369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9360" y="25970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7880" y="25970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4200" y="25970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4160" y="25970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9200" y="259704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3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920" y="259704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2320" y="39751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30480" y="39751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36800" y="39751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6760" y="39751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1800" y="397512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43520" y="39751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0204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36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7832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43360" y="199224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3856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7280" y="46213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25800" y="46213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32120" y="46213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7800" y="46213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5080" y="462132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6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51400" y="46213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160" y="52657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2657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6000" y="52657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1320" y="52657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8960" y="5265720"/>
            <a:ext cx="17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45280" y="52657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5200" y="3279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33720" y="3279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40040" y="3279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65720" y="327960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83000" y="327960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8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59320" y="327960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440" y="1344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09960" y="1344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6280" y="1344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0400" y="1344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134460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54680" y="134460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24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140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1808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184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22840" y="585324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704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84040" y="1379520"/>
            <a:ext cx="239364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ven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86920" y="2027160"/>
            <a:ext cx="229896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dd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8320" y="2630520"/>
            <a:ext cx="257184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i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38120" y="3303720"/>
            <a:ext cx="22428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ultiples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21200" y="3998880"/>
            <a:ext cx="30564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ubling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12640" y="4695840"/>
            <a:ext cx="273348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quar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42080" y="5345280"/>
            <a:ext cx="29286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iang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0800" y="5932440"/>
            <a:ext cx="31039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ibonacci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19040" y="237960"/>
            <a:ext cx="836136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Do you know this Sequence?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5360" y="3209760"/>
            <a:ext cx="28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, 6, 8, 10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5880" y="500364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 -4, -9, -14, -1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9520" y="2319480"/>
            <a:ext cx="28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 4, 7, 10, 1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4840" y="4110120"/>
            <a:ext cx="24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-3, 0, 3, 6, 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00" y="134460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 8, 27, 64, 12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7360" y="1376280"/>
            <a:ext cx="24361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ub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073240"/>
            <a:ext cx="30258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rt from 1 and count up in th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9040" y="237960"/>
            <a:ext cx="836136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Do you know this Sequence?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415040" y="134136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16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28600" y="231300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6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5960" y="320976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4000" y="3083040"/>
            <a:ext cx="30258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rt from 4 and count up in tw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06320" y="4094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02200" y="4017960"/>
            <a:ext cx="30258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rt from -3 and count up in th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2400" y="500868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-2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04000" y="4905360"/>
            <a:ext cx="302580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rt from 1 and count down in f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5:24:27Z</dcterms:created>
  <dc:creator>Trifon</dc:creator>
  <dc:description/>
  <dc:language>en-US</dc:language>
  <cp:lastModifiedBy>Trifon</cp:lastModifiedBy>
  <dcterms:modified xsi:type="dcterms:W3CDTF">2003-11-03T22:08:51Z</dcterms:modified>
  <cp:revision>3</cp:revision>
  <dc:subject/>
  <dc:title>Slide 1</dc:title>
</cp:coreProperties>
</file>